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3D402C-D0B9-4460-970F-EDB52EA3D5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3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9735F-4514-46DD-B918-D17F82AA3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3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C0A6DD-F89F-4195-B2CE-DE85FF17EE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4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38A9A7-35B8-4359-9A06-4E687B4966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706B2C-4BB2-4A9F-850C-A2ACE61815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AFC8F6-C1CA-4319-B888-E84912BDE2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6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8B1579-7B54-4F68-BFDB-97D1C985BA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6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2CB041-E07B-45D9-9BF3-381DAC3FB9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651297-DB35-44F0-A5C5-EAE44B2F1E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1873080"/>
            <a:ext cx="7772400" cy="7213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B2BF39-378B-4673-A67D-C1820C6109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7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757C1A-C877-4383-81F7-8E1C5980E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1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42F44-7CD8-4F4E-8F9D-7E947A1F5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7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56997D-4587-4254-8DC7-D8838AB706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8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9E14C-A551-4092-AB1F-CAACF56A12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8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550E5C-C792-42DC-9282-278AF47748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8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69ABAE-CAB5-44BE-8DF9-D42802B180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9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42F8B2-BFFA-4DF8-9926-BEB8A3DA4B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1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44A41-7BC8-4174-9BF2-F8FC2428E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1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4F78B-B353-4FB0-93DA-73AA1C340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7406B-7760-4435-BD74-1E939585D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1873080"/>
            <a:ext cx="7772400" cy="7213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69082-4C0D-4F22-BE8D-877C244FC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F5EFB-2688-4677-9FEE-3C19ACA31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2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78055-3060-4F04-878D-A8D9AF29F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624AF-F111-4D1F-B48B-C795E80B41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1873B-5E88-4FF1-A427-6F310749CCE7}"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9E71E-5561-474A-ADB1-DB0E701C4AD8}"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arm-Up Sentences</a:t>
            </a:r>
            <a:endParaRPr b="0" lang="en-US" sz="4400" spc="-1" strike="noStrike">
              <a:solidFill>
                <a:srgbClr val="b2b2b2"/>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vary common to exempt the following workers from jury duty pharmacists phisicians clergymen policemen firemen and attorney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ll-grown mail polar bears way up to 1500 pounds live about 25 years and up to four and one half inches is how thick their blubber can b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57200"/>
            <a:ext cx="7772400" cy="1432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Journal #67</a:t>
            </a:r>
            <a:endParaRPr b="0" lang="en-US" sz="4800" spc="-1" strike="noStrike">
              <a:solidFill>
                <a:srgbClr val="b2b2b2"/>
              </a:solidFill>
              <a:latin typeface="Arial"/>
            </a:endParaRPr>
          </a:p>
        </p:txBody>
      </p:sp>
      <p:sp>
        <p:nvSpPr>
          <p:cNvPr id="101" name="PlaceHolder 2"/>
          <p:cNvSpPr>
            <a:spLocks noGrp="1"/>
          </p:cNvSpPr>
          <p:nvPr>
            <p:ph type="subTitle"/>
          </p:nvPr>
        </p:nvSpPr>
        <p:spPr>
          <a:xfrm>
            <a:off x="1447920" y="2362320"/>
            <a:ext cx="6400800" cy="320040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ear a knock on the door.  No one is there, but on the ground you see three items: a paper bag with something in it, a key, and a phone number written on the back of a business card.  Who left them and wh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arm-Up Sentences</a:t>
            </a:r>
            <a:endParaRPr b="0" lang="en-US" sz="4400" spc="-1" strike="noStrike">
              <a:solidFill>
                <a:srgbClr val="b2b2b2"/>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man neglects his fundamental, basic principals when making future plans the end result can range from an uneasy feeling to a full blown sudden crisis or terrible tragidy.</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b weaver spider weaves beautiful well-engineered webs, first, they make a frame, filling in the fame with a hub and spokes comes next, and finally they coat the entire web with a stick adhes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480"/>
            <a:ext cx="7772400" cy="1432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Journal #68</a:t>
            </a:r>
            <a:endParaRPr b="0" lang="en-US" sz="4800" spc="-1" strike="noStrike">
              <a:solidFill>
                <a:srgbClr val="b2b2b2"/>
              </a:solidFill>
              <a:latin typeface="Arial"/>
            </a:endParaRPr>
          </a:p>
        </p:txBody>
      </p:sp>
      <p:sp>
        <p:nvSpPr>
          <p:cNvPr id="105" name="PlaceHolder 2"/>
          <p:cNvSpPr>
            <a:spLocks noGrp="1"/>
          </p:cNvSpPr>
          <p:nvPr>
            <p:ph type="subTitle"/>
          </p:nvPr>
        </p:nvSpPr>
        <p:spPr>
          <a:xfrm>
            <a:off x="1371600" y="2514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 the advantages and disadvantages to having school unifor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Friday Warm-up</a:t>
            </a:r>
            <a:endParaRPr b="0" lang="en-US" sz="4800" spc="-1" strike="noStrike">
              <a:solidFill>
                <a:srgbClr val="b2b2b2"/>
              </a:solidFill>
              <a:latin typeface="Arial"/>
            </a:endParaRPr>
          </a:p>
        </p:txBody>
      </p:sp>
      <p:sp>
        <p:nvSpPr>
          <p:cNvPr id="107" name="PlaceHolder 2"/>
          <p:cNvSpPr>
            <a:spLocks noGrp="1"/>
          </p:cNvSpPr>
          <p:nvPr>
            <p:ph type="subTitle"/>
          </p:nvPr>
        </p:nvSpPr>
        <p:spPr>
          <a:xfrm>
            <a:off x="380880" y="1447920"/>
            <a:ext cx="838224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ollowing short paragraph has spaces inserted in all the wrong places.  Rewrite the paragraph so that it makes sense.</a:t>
            </a:r>
            <a:endParaRPr b="0" lang="en-US" sz="3200" spc="-1" strike="noStrike">
              <a:solidFill>
                <a:srgbClr val="ffffff"/>
              </a:solidFill>
              <a:latin typeface="Arial"/>
            </a:endParaRPr>
          </a:p>
        </p:txBody>
      </p:sp>
      <p:sp>
        <p:nvSpPr>
          <p:cNvPr id="108" name=""/>
          <p:cNvSpPr/>
          <p:nvPr/>
        </p:nvSpPr>
        <p:spPr>
          <a:xfrm>
            <a:off x="380880" y="3505320"/>
            <a:ext cx="838224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T hespa ceswep utbet we enw ordsa rees sent ia lforma kings ens eofwh atwer ead.  Wit houtt he sespa ces, ourwo rdsbe co meaninc omprehe nsi bleju mble.  Witha llthes pac esi nth ewron gp laces, or dina rywr itin gsta rtstolo oklik esom et hin gwrit teni naf ore ignlan gua ge.</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3T18:16:41Z</dcterms:created>
  <dc:creator>tpagel</dc:creator>
  <dc:description/>
  <dc:language>en-US</dc:language>
  <cp:lastModifiedBy>tpagel</cp:lastModifiedBy>
  <dcterms:modified xsi:type="dcterms:W3CDTF">2010-06-03T18:17:01Z</dcterms:modified>
  <cp:revision>1</cp:revision>
  <dc:subject/>
  <dc:title>Warm-Up Sentences</dc:title>
</cp:coreProperties>
</file>